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4BD0-BE4A-45F6-B4E8-5AF9E8D2FF2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Based on the evidence and expert opinion, the CPG DG propo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he following follow-up schedule as shown in the following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B7B-283F-412A-A09E-3F57B1FFACA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A5F-CF92-476A-B7E5-0A9141DA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922-420A-4B0A-885E-B944D12B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CD3-F64D-4192-BF9F-C6BFF953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DB0-0B16-484C-8DBB-98386DAF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FA2-DFFF-4FE0-B2A9-EEB8F317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032-ACFC-4939-97D9-2AE83558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CFE-E7CE-4CC2-85D9-085E20C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D1C-E826-47CC-B8AA-36D17C5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C7F-2DB4-430F-8E6C-D5924FAB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57B-20AD-4359-803F-B863E8A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E05-9405-48CD-8AA9-604867F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E71-1FD5-4BAB-884F-5B997E8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9AF-DBAE-48DC-8E5B-F9BB34ECAC1E}" type="datetime">
              <a:rPr b="0" lang="en-MY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5B0-48CD-4A56-89A8-9D501465DEA5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5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LECTURE 6 : FOLLOW UP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3160" y="210960"/>
            <a:ext cx="11583720" cy="28879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609560" y="33660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TRAINING OF CORE TRAINERS FOR  CPG MANAGEMENT OF RETINOPATHY PREMATURITY (SECOND E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8478720" y="2475000"/>
            <a:ext cx="3749760" cy="4054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230640" y="4494240"/>
            <a:ext cx="61164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Dr.Sakinah Su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Family Medicine Speci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Klinik Kesihatan Nil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Negeri Sem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9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7C5-B968-4588-B5F9-06CEDBDCAA54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31920" y="22860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908000" y="1757520"/>
            <a:ext cx="906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Follow-up of infants with or without ROP should be done accordingly with complete eye examination base on staging and treatment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846-535E-46B5-AE03-8B1D9C66450B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36720" y="2503440"/>
            <a:ext cx="9455400" cy="155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50000" y="1712880"/>
            <a:ext cx="3756240" cy="40546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48A-E322-41EC-83DD-719CB79C1F47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46280" y="2004840"/>
            <a:ext cx="92124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To learn how to follow-up infants with 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769E-11E9-414C-BF09-E0A95CE63426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F18-47C8-49F8-813E-A140347918B1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76160" y="1611000"/>
            <a:ext cx="921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n RCT, which is part of ETROP, examined the prevalence of myopia and high myopia at 6- and 9-month post-term and, 2- and 3-year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</a:rPr>
              <a:t>postnatal findings. It showed 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 Light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t 6- and 9-month post-term were significantly higher in conventional management eyes than in early treated eyes; however, there was no difference in the prevalence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of high my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nd high myopia were similar at 2- and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3-year postnatal in both treatment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in both treatment groups, there was an increase in prevalence of myopia over time, occurring mostly between 6- and 9-month post-term while in contrast, prevalence of high myopia increased at each successive age up to thre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6934320" y="59436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Calibri"/>
              </a:rPr>
              <a:t>62.Quinn GE, Dobson V, Davitt BV, et al: 2008;115(6):1058-64.e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712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EFRACTIVE OUTCOME OF PREMATURE INFANTS WITH OR WITHOUT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322880" y="5672160"/>
            <a:ext cx="76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63. Hsieh CJ, Liu JW, Huang JS, et al.. 2012;28(4):204-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3F6-CADA-4686-9807-66E9E3301CC3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79160" y="1711080"/>
            <a:ext cx="9580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A prospective cohort study evaluated the extent to which refractive morbidity at six and 24 months of PMA is correlated to preterm birth or ROP compared with full-term infants :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 Light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 Light"/>
              </a:rPr>
              <a:t>Those with laser-treated severe </a:t>
            </a: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ROP had the highest prevalence of refractive errors during the first two years of lif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The refractive errors increased significantly across the ages and these findings indicated that monitoring on it was required for at least two yea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SE in eyes with regressed ROP and those without ROP was significantly lower than eyes of full-term infants at the first refraction (six months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FRACTIVE ERROR CHANGES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IN PRETERM INFANTS WITH AND WITHOUT ROP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1AB-5374-4285-BBB0-B7FA01C40267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In a retrospective observational study on changes in refractive errors in preterm infants with and without ROP in the first six years of life 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significant increase in myopia values was noted only between first and third-year examinations in the severe ROP (treated)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was observed in the mild/no ROP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in astigmatism and anisometropia seen in both mild/no and severe ROP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4. Kaya M, Berk AT, Yaman. 2018;38(4):1681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ISK FOR ROP-RELATED COM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CB9B-3AA9-4D8F-85C3-4C4784A504CB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 recent retrospective study in Taiwan showed tha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pproximately one-third of ROP eyes with spontaneous regression or anti-VEGF injection exhibited persistent avascular retina when the children reached school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tients with regressed ROP have long-term risk for ROP-related com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rental counselling with regard to this complication is essential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5.Ling XC, Kang EY, Huang JL, et al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.2023;3(3):100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FOLLOW UP SCHEDULE FOR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9FB-AEFD-4A87-A2E9-11BB081B1DEB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528920"/>
          <a:ext cx="9574200" cy="4954320"/>
        </p:xfrm>
        <a:graphic>
          <a:graphicData uri="http://schemas.openxmlformats.org/drawingml/2006/table">
            <a:tbl>
              <a:tblPr/>
              <a:tblGrid>
                <a:gridCol w="4210200"/>
                <a:gridCol w="5364000"/>
              </a:tblGrid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OUTCOMES OF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FOLLOW-UP AND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no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spontaneous regression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3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treated with laser photocoagulation or anti-VEGF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yearly examination until 5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 laser treated infants, baseline visual field assessment may be performed based on the discretion of the treating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P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gular follow-up at the discretion of the ophthalmologist with the possibility of fundus fluoresceine angiography (FFA) and laser photocoag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2" name="TextBox 9"/>
          <p:cNvSpPr/>
          <p:nvPr/>
        </p:nvSpPr>
        <p:spPr>
          <a:xfrm>
            <a:off x="160200" y="6451560"/>
            <a:ext cx="102711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*consists of VA, alignment, nystagmus, cycloplegic refraction and dilated fund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982080" y="64292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Page 24 of C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2362-582F-4B5C-9D55-E10BF8ADB467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693720" y="284040"/>
            <a:ext cx="108885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6400" y="282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COMMENDATION FOR FOLLOW U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14240" y="2568600"/>
            <a:ext cx="10639440" cy="283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077C-6C23-43D2-A9EB-2695A5022A2A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30T01:09:00Z</dcterms:created>
  <dc:creator>Arifah Nur Yahya</dc:creator>
  <dc:description/>
  <dc:language>en-US</dc:language>
  <cp:lastModifiedBy>Karen Sharmini</cp:lastModifiedBy>
  <dcterms:modified xsi:type="dcterms:W3CDTF">2024-11-26T01:58:53Z</dcterms:modified>
  <cp:revision>32</cp:revision>
  <dc:subject/>
  <dc:title>TRAINING MODULE CPG MANAGEMENT OF ROP 2nd EDITION : FOLLOW UP AND REHABILI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C9D3D3B97FF413095C89F22C25EB1B3_13</vt:lpwstr>
  </property>
  <property fmtid="{D5CDD505-2E9C-101B-9397-08002B2CF9AE}" pid="3" name="KSOProductBuildVer">
    <vt:lpwstr>1033-12.2.0.17545</vt:lpwstr>
  </property>
</Properties>
</file>